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BB7E-DEB2-47ED-AA77-5F3D27D3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E75-998B-4D65-884C-27420274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861-B0C6-4EC3-AF8E-42E26B76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C25-1011-482A-9528-A28A969C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553-82E3-48E3-947C-19B97AC2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CFD-746F-43D4-ACD9-7C33ADFB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C6C-02DD-4C7C-8CB5-F3CAB470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BF4-34F6-41B9-8C74-BE0778C8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13F8-E02B-40CD-8BCE-599DDD86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6A6-7639-456B-8F25-11A2A1BB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B4E-D66F-489F-850C-C39A9D25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2B5B-7F49-45F9-8F1F-5BDA392B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D0940-6E59-4FFA-B64A-76BE6BB2A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2040" y="1325160"/>
            <a:ext cx="766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here is no one like our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here is no one like our God     2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1880" y="6742440"/>
            <a:ext cx="39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od of This City: Pre-Cho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4880" y="816120"/>
            <a:ext cx="9366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or greater things have yet to come 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nd greater things are still to be done in this city  4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3440" y="6788520"/>
            <a:ext cx="37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od of This City: Cho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2040" y="1325160"/>
            <a:ext cx="766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here is no one like our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here is no one like our God     2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1880" y="6742440"/>
            <a:ext cx="39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od of This City: Pre-Cho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9:32:32Z</dcterms:created>
  <dc:creator/>
  <dc:description/>
  <dc:language>en-US</dc:language>
  <cp:lastModifiedBy/>
  <dcterms:modified xsi:type="dcterms:W3CDTF">2015-03-06T05:24:55Z</dcterms:modified>
  <cp:revision>3</cp:revision>
  <dc:subject/>
  <dc:title/>
</cp:coreProperties>
</file>